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ct" ContentType="image/x-pict"/>
  <Override PartName="/ppt/media/image4.pct" ContentType="image/x-pict"/>
  <Override PartName="/ppt/media/image5.pct" ContentType="image/x-pict"/>
  <Override PartName="/ppt/media/image6.pct" ContentType="image/x-pict"/>
  <Override PartName="/ppt/media/image7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DB49-3D21-434F-9088-965DCD75C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033F-44AD-45B6-9CE6-5C7EB365C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C721-BE5C-4113-A22B-FBC398698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C823-2BAE-4BC5-B25B-F36B5789D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2490-ED1A-4979-90E2-58290AF0C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311D-9CE6-4670-89DC-EF2621010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FACB-8AE3-4703-84E9-6B774897A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7110-C038-45DB-9584-9E3B5B565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A2D6-B827-4F9F-9042-1B0C64029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0E4D-713D-4488-BF5B-CE3C2573F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6B67-73B4-447A-86E5-F6748D3D0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854F-2B15-4A33-BFFE-9CF755DD0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F14FE-F8F0-4789-96DC-54001CF6B1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4.pct"/><Relationship Id="rId3" Type="http://schemas.openxmlformats.org/officeDocument/2006/relationships/image" Target="../media/image5.pct"/><Relationship Id="rId4" Type="http://schemas.openxmlformats.org/officeDocument/2006/relationships/image" Target="../media/image6.pct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066680" y="1371600"/>
            <a:ext cx="7162920" cy="32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 Black"/>
              </a:rPr>
              <a:t>Soil Analysi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6840" y="1128600"/>
            <a:ext cx="3886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metal spatula to dip into and select a sample of eviden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ace sample on round paper hol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ace paper holder with soil sample under microscop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ice particle size, shape and type of partic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re may be organic (from living material) as well as mineral partic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 the material clumpy or loose particl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4800600" y="228600"/>
            <a:ext cx="3123720" cy="3084840"/>
            <a:chOff x="4800600" y="228600"/>
            <a:chExt cx="3123720" cy="3084840"/>
          </a:xfrm>
        </p:grpSpPr>
        <p:pic>
          <p:nvPicPr>
            <p:cNvPr id="44" name="" descr=""/>
            <p:cNvPicPr/>
            <p:nvPr/>
          </p:nvPicPr>
          <p:blipFill>
            <a:blip r:embed="rId1"/>
            <a:stretch/>
          </p:blipFill>
          <p:spPr>
            <a:xfrm>
              <a:off x="4800600" y="228600"/>
              <a:ext cx="2741400" cy="238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4864320" y="2670840"/>
              <a:ext cx="3060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ample with mineral content onl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029200" y="3429000"/>
            <a:ext cx="3200400" cy="3309480"/>
            <a:chOff x="5029200" y="3429000"/>
            <a:chExt cx="3200400" cy="3309480"/>
          </a:xfrm>
        </p:grpSpPr>
        <p:pic>
          <p:nvPicPr>
            <p:cNvPr id="47" name="" descr=""/>
            <p:cNvPicPr/>
            <p:nvPr/>
          </p:nvPicPr>
          <p:blipFill>
            <a:blip r:embed="rId2"/>
            <a:stretch/>
          </p:blipFill>
          <p:spPr>
            <a:xfrm>
              <a:off x="5029200" y="3429000"/>
              <a:ext cx="2664000" cy="268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5181480" y="6095880"/>
              <a:ext cx="304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ample with mainly organic cont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" name=""/>
          <p:cNvSpPr/>
          <p:nvPr/>
        </p:nvSpPr>
        <p:spPr>
          <a:xfrm>
            <a:off x="838080" y="45720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amining Soil Ev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914400" y="1722600"/>
            <a:ext cx="2970360" cy="5634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2743200" y="2789280"/>
            <a:ext cx="95076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cument Evid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47960" y="17524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your journal draw several particles representative of those you see under the microsco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380988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4T12:17:59Z</dcterms:created>
  <dc:creator>Greg Neff</dc:creator>
  <dc:description/>
  <dc:language>en-US</dc:language>
  <cp:lastModifiedBy>CAC</cp:lastModifiedBy>
  <dcterms:modified xsi:type="dcterms:W3CDTF">2008-03-05T10:05:47Z</dcterms:modified>
  <cp:revision>3</cp:revision>
  <dc:subject/>
  <dc:title>PowerPoint Presentation</dc:title>
</cp:coreProperties>
</file>